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A81-8259-411C-8E10-53E6FAAF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976-AE29-4AA9-8B43-0A7786B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58C-1354-4D8F-850B-80F3C6F0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947-6AE4-4132-852C-1C41C215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8FC-5488-4D11-8A6C-A6CD445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0D3-C094-4B7C-8786-FCAFDEF7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124-2F0C-4E3F-A4D2-BB5FC46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B10-FDC2-44B3-A433-432E871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D25-E271-47A3-A999-316D10E8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331-C00E-4A1E-B92F-8A13DCB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D38-DFB1-409A-BFDE-70953BB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B65-3EF2-42FE-A0C7-2FBAA748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E04746-A252-4836-9821-BF5EED22B8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imals and Habit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n        Grass seeds        Mouse             o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666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5909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1143000" cy="92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438280" y="3200400"/>
            <a:ext cx="162576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105520" y="33526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315200" y="3124080"/>
            <a:ext cx="106668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590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n                 Grass                   Rabbit                     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6668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66688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914400" cy="83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1668600" cy="1001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16938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2367000" cy="1398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286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n               Algae              Water flea                 Sun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10922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62320" y="3048120"/>
            <a:ext cx="1752480" cy="102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343400" y="2895480"/>
            <a:ext cx="1828800" cy="119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934320" y="2971800"/>
            <a:ext cx="182880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od Cha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213372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n                   Leaf                   Caterpil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hrew                 Ba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14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219320" cy="1146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1447560" cy="1096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715000" y="2819520"/>
            <a:ext cx="118116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62120" y="4800600"/>
            <a:ext cx="1447560" cy="94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505320" y="4800600"/>
            <a:ext cx="79992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45:58Z</dcterms:created>
  <dc:creator>Education &amp; Culture</dc:creator>
  <dc:description/>
  <dc:language>en-US</dc:language>
  <cp:lastModifiedBy>Pitchford</cp:lastModifiedBy>
  <dcterms:modified xsi:type="dcterms:W3CDTF">2006-09-18T13:57:51Z</dcterms:modified>
  <cp:revision>11</cp:revision>
  <dc:subject/>
  <dc:title>Food Chains and Webs.</dc:title>
</cp:coreProperties>
</file>